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531FA-E2DF-429A-A599-E8FDE18EEF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98609-8E80-419C-9CEC-5EEA3E5794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4C341-8A63-4817-B549-434FE3B953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63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74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63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74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125280"/>
            <a:ext cx="475776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29664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Lap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Sept. 18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22004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Robustnes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sk driv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an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rdy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/PC bump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el plate in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 drop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and dust proof 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year 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_x001f_quanta-computer-olpc#2AB24A.JPG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3124080" y="685800"/>
            <a:ext cx="21384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- Simple to repai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ht screws to replace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mother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_x0014_JSJTZRIBTgFnD5HO.jpg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2666880" y="1504800"/>
            <a:ext cx="26672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Gen 2 Goal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Rob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_x000b_sitting.jpg       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2666880" y="1752480"/>
            <a:ext cx="251460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Roadmap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380880" y="1143000"/>
            <a:ext cx="4648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57200" y="1447920"/>
            <a:ext cx="11430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600200" y="1676520"/>
            <a:ext cx="1371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 flipV="1">
            <a:off x="990720" y="99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 flipV="1">
            <a:off x="2438280" y="99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 flipV="1">
            <a:off x="3886200" y="99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80880" y="609480"/>
            <a:ext cx="58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600200" y="609480"/>
            <a:ext cx="58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971800" y="609480"/>
            <a:ext cx="58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380880" y="1219320"/>
            <a:ext cx="1524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proto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2971800" y="1905120"/>
            <a:ext cx="213372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1598040" y="1447920"/>
            <a:ext cx="1183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3123000" y="1676520"/>
            <a:ext cx="912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2209680" y="99072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77040" y="1600200"/>
            <a:ext cx="625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Laptop, 1992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 Macintosh Duo 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0x400 (190x120mm) Monochrome 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3 MHz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 GB disk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2 l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W cha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_x000f_Mac Duo 230.gif   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3352680" y="1523880"/>
            <a:ext cx="17924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Laptop, 2008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 MacBook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40 x 900 (332x208mm) Color 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GHz Dual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 Co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 GB disk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4 l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5W cha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_x0012_MacBook Pro 15.jpg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2895480" y="1523880"/>
            <a:ext cx="2463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Traditional Laptop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l impr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computing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non-volatile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Price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d for Office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Laptop, 2008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PC 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 x 900 (152x114mm) Color 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66 MHz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 Co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 solid-state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5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W cha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_x000b_olpc-xo.jpg       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3048120" y="1558800"/>
            <a:ext cx="214776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Why an XO 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light Readable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moving p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han but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Re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Displa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light readable (reflective/transmiss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 x 900 monoch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ly less resolution in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able LED back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power, low cost, sa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50 C, difficult to reach 5 year life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Low Pow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5430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ly powered subsys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reless 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suspend/ re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s milliS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D back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_x0011_Block Diagram.pdf                                              000D7019_x0008_Repo-Man                       C17146F9:"/>
          <p:cNvPicPr/>
          <p:nvPr/>
        </p:nvPicPr>
        <p:blipFill>
          <a:blip r:embed="rId1"/>
          <a:stretch/>
        </p:blipFill>
        <p:spPr>
          <a:xfrm>
            <a:off x="2362320" y="1371600"/>
            <a:ext cx="298440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Power Managemen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y performance strongly dependent on software activity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 ready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K cycles tested vs. 20 for normal lap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ut 4 hours of battery life during normal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-16 hours of battery life in sleep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M management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ssive CPU susp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cp:lastPrinted>2008-09-18T14:58:32Z</cp:lastPrinted>
  <dcterms:modified xsi:type="dcterms:W3CDTF">2008-09-18T17:55:33Z</dcterms:modified>
  <cp:revision>81</cp:revision>
  <dc:subject/>
  <dc:title>One Laptop per Child</dc:title>
</cp:coreProperties>
</file>